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27.png" ContentType="image/png"/>
  <Override PartName="/ppt/media/image8.png" ContentType="image/png"/>
  <Override PartName="/ppt/media/image28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9.png" ContentType="image/png"/>
  <Override PartName="/ppt/media/image4.png" ContentType="image/png"/>
  <Override PartName="/ppt/media/image12.jpeg" ContentType="image/jpeg"/>
  <Override PartName="/ppt/media/image13.png" ContentType="image/png"/>
  <Override PartName="/ppt/media/image11.png" ContentType="image/png"/>
  <Override PartName="/ppt/media/image30.jpeg" ContentType="image/jpe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jpeg" ContentType="image/jpeg"/>
  <Override PartName="/ppt/media/image16.png" ContentType="image/png"/>
  <Override PartName="/ppt/media/image17.png" ContentType="image/png"/>
  <Override PartName="/ppt/media/image6.jpeg" ContentType="image/jpeg"/>
  <Override PartName="/ppt/media/image18.png" ContentType="image/png"/>
  <Override PartName="/ppt/media/image20.png" ContentType="image/png"/>
  <Override PartName="/ppt/media/image1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7088188" cy="94281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7088400" cy="942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0080" cy="47160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4014360" y="0"/>
            <a:ext cx="3070440" cy="47160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85480" y="705960"/>
            <a:ext cx="4716360" cy="3537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707760" y="4478040"/>
            <a:ext cx="5670360" cy="424332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0" y="8955000"/>
            <a:ext cx="3070080" cy="47160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4014360" y="8955000"/>
            <a:ext cx="3070440" cy="47160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lstStyle>
            <a:lvl1pPr marL="216000"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E1FC3AF6-C306-4A6B-ADA9-93DCEE0017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4014720" y="8955000"/>
            <a:ext cx="307044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AF137691-10A8-4560-9B11-ED0B4E59DE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87280" y="708120"/>
            <a:ext cx="4713480" cy="35352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709200" y="4478040"/>
            <a:ext cx="5667480" cy="42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D10228-9338-4B6C-88A6-8B5F757EE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A1570E-4A4C-49D5-81FC-23825394C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C5604C-F007-434E-992A-4E5279E53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C4E14F-89C1-4ACC-82E1-6B22F0306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D8179-1C52-40AD-90BE-C74F41CF6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597CA-677A-4F7F-9586-4EBD82D47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D32E7-7F84-4277-A6E2-C5AC10FEC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30FE6-646F-4897-98C2-AC64689AE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4A704-D10D-421B-8DF7-A0E1B1D3F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D3A05-799F-4962-8369-3D31461E7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8100F-B2A4-4447-8141-28D2DFF89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3483BF-8260-4169-8FCB-61C85FD20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B5747-75C2-4E98-96AC-45BB292AE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1296C-6CB7-4C06-8F23-B75D7AFE7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FD5EA-3DB3-40BF-AACD-2FDEAD2DC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F85F7-ADDB-4678-B2E2-948A9A1C8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9375C-1031-4E89-A3B6-312CE5324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1DCDF2-5979-4411-864C-52787BDC3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8DDD99-6832-4F93-97AC-92EF7E7AF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37F63D-4697-4944-8201-474B633F6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B7CBAD-131A-4C62-942F-991294C5A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B48E39-169C-4118-823A-647D80F01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B3018E-F03D-4972-9A8B-4327EE3A5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8FB827-6D72-4691-B3F9-9A9338CC6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6FF3F-795D-46E6-B020-9300D4D6A7D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FC997-69E9-4E53-BE69-6ACD7E992E2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2590920"/>
            <a:ext cx="60199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The Lower Limb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1981080" y="4495680"/>
            <a:ext cx="5486400" cy="63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Pelvis, Thigh, Leg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and Foo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e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267080" y="1752480"/>
            <a:ext cx="4648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b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eives the weight of body from femur and transmits to f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to femur in size and we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ticulates with fibula proximally and distal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osseous membra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bu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 NOT bear we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scle attach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part of knee jo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bilize ankle jo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8" descr=""/>
          <p:cNvPicPr/>
          <p:nvPr/>
        </p:nvPicPr>
        <p:blipFill>
          <a:blip r:embed="rId1"/>
          <a:stretch/>
        </p:blipFill>
        <p:spPr>
          <a:xfrm>
            <a:off x="0" y="2133720"/>
            <a:ext cx="4309920" cy="35607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oo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800600" y="304920"/>
            <a:ext cx="4114800" cy="62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n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s the weight of the b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 as a lever to propel the body forw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rs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lus = ank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tween tibia and fibul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ticulates with bo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aneus = he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achment for Calcaneal tend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rries tal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vicu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b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dial, lateral and intermediate cuneifo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tars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alang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7" descr=""/>
          <p:cNvPicPr/>
          <p:nvPr/>
        </p:nvPicPr>
        <p:blipFill>
          <a:blip r:embed="rId1"/>
          <a:stretch/>
        </p:blipFill>
        <p:spPr>
          <a:xfrm>
            <a:off x="162000" y="1600200"/>
            <a:ext cx="4421160" cy="46195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oo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649760" y="1980720"/>
            <a:ext cx="40370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 arc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d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te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ver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s tendons that run inferior to foot b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lp support arches of fo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il after stepp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5"/>
          <p:cNvSpPr/>
          <p:nvPr/>
        </p:nvSpPr>
        <p:spPr>
          <a:xfrm>
            <a:off x="6461280" y="2438280"/>
            <a:ext cx="60948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6"/>
          <p:cNvSpPr/>
          <p:nvPr/>
        </p:nvSpPr>
        <p:spPr>
          <a:xfrm flipV="1">
            <a:off x="6537240" y="281952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7"/>
          <p:cNvSpPr/>
          <p:nvPr/>
        </p:nvSpPr>
        <p:spPr>
          <a:xfrm>
            <a:off x="7076160" y="2630520"/>
            <a:ext cx="14716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ngitudi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8" descr=""/>
          <p:cNvPicPr/>
          <p:nvPr/>
        </p:nvPicPr>
        <p:blipFill>
          <a:blip r:embed="rId1"/>
          <a:stretch/>
        </p:blipFill>
        <p:spPr>
          <a:xfrm>
            <a:off x="380880" y="1447920"/>
            <a:ext cx="4191120" cy="45147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733920" y="228240"/>
            <a:ext cx="54100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Joints of Lower Lim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733920" y="1447560"/>
            <a:ext cx="49528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p (femur + acetabul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ll + sock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ax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nov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nee (femur + tibi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nge (modifi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ax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nov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ains menisci, bursa, many liga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nee (femur + patell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n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liding of patel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nov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4" descr="Joints"/>
          <p:cNvPicPr/>
          <p:nvPr/>
        </p:nvPicPr>
        <p:blipFill>
          <a:blip r:embed="rId1"/>
          <a:stretch/>
        </p:blipFill>
        <p:spPr>
          <a:xfrm>
            <a:off x="228600" y="685800"/>
            <a:ext cx="3327480" cy="5791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53" name="Line 6"/>
          <p:cNvSpPr/>
          <p:nvPr/>
        </p:nvSpPr>
        <p:spPr>
          <a:xfrm flipH="1" flipV="1">
            <a:off x="3047760" y="2743200"/>
            <a:ext cx="685800" cy="3808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7"/>
          <p:cNvSpPr/>
          <p:nvPr/>
        </p:nvSpPr>
        <p:spPr>
          <a:xfrm flipH="1" flipV="1">
            <a:off x="3276360" y="3580920"/>
            <a:ext cx="533160" cy="167652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8"/>
          <p:cNvSpPr/>
          <p:nvPr/>
        </p:nvSpPr>
        <p:spPr>
          <a:xfrm flipH="1">
            <a:off x="3048120" y="1752480"/>
            <a:ext cx="761760" cy="38124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733920" y="151920"/>
            <a:ext cx="5410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Joints of Lower Lim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343040" y="1752120"/>
            <a:ext cx="4419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ximal Tibia + Fibu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ne, Gli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nov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tal Tibia + Fibu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light “give” (synarthrosi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brous (syndesmosi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kle (Tibia/Fibula + Talu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nge, Uniax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nov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tarsal &amp; Tarsal-metatars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ne, synov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tarsal-phalan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dyloid, synov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phalange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nge, uniax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" descr="Joints"/>
          <p:cNvPicPr/>
          <p:nvPr/>
        </p:nvPicPr>
        <p:blipFill>
          <a:blip r:embed="rId1"/>
          <a:stretch/>
        </p:blipFill>
        <p:spPr>
          <a:xfrm>
            <a:off x="228600" y="533520"/>
            <a:ext cx="3459240" cy="6019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59" name="Line 5"/>
          <p:cNvSpPr/>
          <p:nvPr/>
        </p:nvSpPr>
        <p:spPr>
          <a:xfrm flipH="1">
            <a:off x="3200040" y="2057400"/>
            <a:ext cx="1219320" cy="16002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6"/>
          <p:cNvSpPr/>
          <p:nvPr/>
        </p:nvSpPr>
        <p:spPr>
          <a:xfrm flipH="1">
            <a:off x="3123720" y="2971800"/>
            <a:ext cx="1295640" cy="99072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7"/>
          <p:cNvSpPr/>
          <p:nvPr/>
        </p:nvSpPr>
        <p:spPr>
          <a:xfrm flipH="1">
            <a:off x="2971800" y="3886200"/>
            <a:ext cx="1371600" cy="53352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8"/>
          <p:cNvSpPr/>
          <p:nvPr/>
        </p:nvSpPr>
        <p:spPr>
          <a:xfrm flipH="1">
            <a:off x="3200040" y="4800600"/>
            <a:ext cx="1143000" cy="7632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9"/>
          <p:cNvSpPr/>
          <p:nvPr/>
        </p:nvSpPr>
        <p:spPr>
          <a:xfrm flipH="1">
            <a:off x="3123720" y="4800600"/>
            <a:ext cx="1219320" cy="53352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10"/>
          <p:cNvSpPr/>
          <p:nvPr/>
        </p:nvSpPr>
        <p:spPr>
          <a:xfrm flipH="1">
            <a:off x="3276360" y="5410080"/>
            <a:ext cx="1143000" cy="30492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11"/>
          <p:cNvSpPr/>
          <p:nvPr/>
        </p:nvSpPr>
        <p:spPr>
          <a:xfrm flipH="1">
            <a:off x="3429000" y="6019920"/>
            <a:ext cx="914400" cy="7596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124080" y="2742840"/>
            <a:ext cx="60199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Muscles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uscles of Hip and Thig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419720" y="1143000"/>
            <a:ext cx="44956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luteal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terior pelv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tend thig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tate thig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ducts thig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terior Compartment Thi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exes thigh at h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tends leg at kn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dial/Adductor Compart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ucts thig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ally rotates thig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terior Compartment Thi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tends thig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exes le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5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4051440" cy="57913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457200" y="1980720"/>
            <a:ext cx="403848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4648320" y="1980720"/>
            <a:ext cx="4038480" cy="388620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2" descr="http://ect.downstate.edu/courseware/haonline/imgs/00000/1000/700/1792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657600" y="228240"/>
            <a:ext cx="4952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Glute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505320" y="1447920"/>
            <a:ext cx="5486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luteus maxim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igin - Ilium, sacrum and coccy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ertion - Gluteal tuberosity of femur, iliotibial 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ion - Extends thigh, some lateral rotation and abd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nervation - Inferior gluteal ner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luteus medi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luteus minim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igin - Iliu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ertion - Greater trochanter of femu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ion - Abduction, medial ro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nervation - Superior gluteal nerv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er Gluteals help stabilize hip to allow fluent bipedal wal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9" descr=""/>
          <p:cNvPicPr/>
          <p:nvPr/>
        </p:nvPicPr>
        <p:blipFill>
          <a:blip r:embed="rId1"/>
          <a:stretch/>
        </p:blipFill>
        <p:spPr>
          <a:xfrm>
            <a:off x="380880" y="114480"/>
            <a:ext cx="2978280" cy="30859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177" name="Picture 10" descr=""/>
          <p:cNvPicPr/>
          <p:nvPr/>
        </p:nvPicPr>
        <p:blipFill>
          <a:blip r:embed="rId2"/>
          <a:stretch/>
        </p:blipFill>
        <p:spPr>
          <a:xfrm>
            <a:off x="228600" y="3343320"/>
            <a:ext cx="3162240" cy="31338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114440" y="457200"/>
            <a:ext cx="4800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sterior Pelv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190760" y="1676160"/>
            <a:ext cx="46479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sor fasciae lata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igin – iliac crest and anterior inferior iliac sp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ertion – iliotibial t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on - Flex thigh, abduct thigh, medial rotation of thi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nervation – Superior gluteal ner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7" descr=""/>
          <p:cNvPicPr/>
          <p:nvPr/>
        </p:nvPicPr>
        <p:blipFill>
          <a:blip r:embed="rId1"/>
          <a:stretch/>
        </p:blipFill>
        <p:spPr>
          <a:xfrm>
            <a:off x="228600" y="838080"/>
            <a:ext cx="3708360" cy="55627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urface Anatom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181480" y="1447560"/>
            <a:ext cx="373392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luteal region / posterior pelv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liac cr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luteus maximu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e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tal/gluteal clef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tical midline; “Crack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luteal fold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ttom of cheek; “prominence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9" descr=""/>
          <p:cNvPicPr/>
          <p:nvPr/>
        </p:nvPicPr>
        <p:blipFill>
          <a:blip r:embed="rId1"/>
          <a:stretch/>
        </p:blipFill>
        <p:spPr>
          <a:xfrm>
            <a:off x="304920" y="1905120"/>
            <a:ext cx="4647960" cy="40129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nterior Compartment Thig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962160" y="914400"/>
            <a:ext cx="47242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adriceps femor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us femor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igin – anterior inferior iliac spine, margin of acetabul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ertion – patella and tibial tuberosity via the patellar liga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tion – extends knee, flexes thig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stus lateral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stus medial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stus intermedi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igin - fem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ertion – patella and tibial tuberosity via the patellar liga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tion – extends kn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rtori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igin - anterior superior iliac sp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ertion – medial tib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tion - flex, abduct, lat rotate thigh; weak knee flex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5"/>
          <p:cNvSpPr/>
          <p:nvPr/>
        </p:nvSpPr>
        <p:spPr>
          <a:xfrm>
            <a:off x="9000" y="6481800"/>
            <a:ext cx="4582080" cy="3682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above innervated by the femoral nerve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6" descr=""/>
          <p:cNvPicPr/>
          <p:nvPr/>
        </p:nvPicPr>
        <p:blipFill>
          <a:blip r:embed="rId1"/>
          <a:stretch/>
        </p:blipFill>
        <p:spPr>
          <a:xfrm>
            <a:off x="0" y="1442880"/>
            <a:ext cx="4140360" cy="48056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nterior Compartment Thig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266720" y="1599840"/>
            <a:ext cx="4419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iopso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igin - Ilia, sacrum, lumbar vertebra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ertion – lesser trocha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on –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lexor of thi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nervation – femoral ner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7" descr=""/>
          <p:cNvPicPr/>
          <p:nvPr/>
        </p:nvPicPr>
        <p:blipFill>
          <a:blip r:embed="rId1"/>
          <a:stretch/>
        </p:blipFill>
        <p:spPr>
          <a:xfrm>
            <a:off x="304920" y="1066680"/>
            <a:ext cx="3670200" cy="55072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809520" y="228240"/>
            <a:ext cx="4876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dduc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580920" y="1219320"/>
            <a:ext cx="52578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uctor long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uctor brev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uctor magn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igin – inferior pelv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ertion - fem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tion –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uct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medial rot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nervation – Obturator ne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ctine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igin - pub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ertion – lesser trocha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tion –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uct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medial rot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nervation – femoral, sometimes obtur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acil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igin - pub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ertion – medial tib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tion –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uct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high, flex, medial, rotates le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nervation – Obturator ne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5" descr=""/>
          <p:cNvPicPr/>
          <p:nvPr/>
        </p:nvPicPr>
        <p:blipFill>
          <a:blip r:embed="rId1"/>
          <a:stretch/>
        </p:blipFill>
        <p:spPr>
          <a:xfrm>
            <a:off x="457200" y="52560"/>
            <a:ext cx="2903400" cy="33764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191" name="Picture 6" descr=""/>
          <p:cNvPicPr/>
          <p:nvPr/>
        </p:nvPicPr>
        <p:blipFill>
          <a:blip r:embed="rId2"/>
          <a:stretch/>
        </p:blipFill>
        <p:spPr>
          <a:xfrm>
            <a:off x="457200" y="3505320"/>
            <a:ext cx="2986200" cy="33001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osterior Compartment - Hamstr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733920" y="990720"/>
            <a:ext cx="53337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ceps femoris (2 hea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igin – ischial tuberosity, distal fem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ertion - lateral tibia, head fibu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on - thigh extension, knee flexion, lateral ro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mitendinos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mimembranos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igin - ischial tuberos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ertion - medial tib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on - thigh extension, knee flexion, medial ro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5"/>
          <p:cNvSpPr/>
          <p:nvPr/>
        </p:nvSpPr>
        <p:spPr>
          <a:xfrm>
            <a:off x="9000" y="6481800"/>
            <a:ext cx="5306040" cy="3682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iatic nerve innervates all of the above muscles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9" descr=""/>
          <p:cNvPicPr/>
          <p:nvPr/>
        </p:nvPicPr>
        <p:blipFill>
          <a:blip r:embed="rId1"/>
          <a:stretch/>
        </p:blipFill>
        <p:spPr>
          <a:xfrm>
            <a:off x="73080" y="1476360"/>
            <a:ext cx="3508200" cy="45435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uscles of the Le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142640" y="198072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erior Compar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rsiflex ankle, invert foot, extend to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nervation: Deep fibular ner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teral Compar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tarflex, evert fo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nervation: Superficial Fibular ner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terior Compart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erficial and deep lay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tarflex foot, flex to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nervation: Tibial ner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nterior Compart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886200" y="1143000"/>
            <a:ext cx="4952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bialis anteri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igin - tib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ertion - tars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ion - dorsiflexion, foot inver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ensor digitorum long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igin – tibia and fibu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ertion - phalan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ion – toe exten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ensor hallucis long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igin – fibula, interosseous membra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ertion – big to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ion - extend big toe, dorsiflex foo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5"/>
          <p:cNvSpPr/>
          <p:nvPr/>
        </p:nvSpPr>
        <p:spPr>
          <a:xfrm>
            <a:off x="3048120" y="63244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6"/>
          <p:cNvSpPr/>
          <p:nvPr/>
        </p:nvSpPr>
        <p:spPr>
          <a:xfrm>
            <a:off x="3210480" y="6324480"/>
            <a:ext cx="3754440" cy="3682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innervated by deep fibular ne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10" descr=""/>
          <p:cNvPicPr/>
          <p:nvPr/>
        </p:nvPicPr>
        <p:blipFill>
          <a:blip r:embed="rId1"/>
          <a:stretch/>
        </p:blipFill>
        <p:spPr>
          <a:xfrm>
            <a:off x="380880" y="1066680"/>
            <a:ext cx="3183120" cy="51339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ateral Compart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962520" y="1523520"/>
            <a:ext cx="486864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bularis (peroneus) long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igin – lateral fibu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ertion – 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etatarsal, tars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on - plantarflex, evert fo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bularis (peroneus) brev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igin – distal fibu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ertion - proximal fifth metatars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on – same as above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5"/>
          <p:cNvSpPr/>
          <p:nvPr/>
        </p:nvSpPr>
        <p:spPr>
          <a:xfrm>
            <a:off x="3881160" y="6324480"/>
            <a:ext cx="4655160" cy="3682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innervated by the superficial fibular ne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8" descr=""/>
          <p:cNvPicPr/>
          <p:nvPr/>
        </p:nvPicPr>
        <p:blipFill>
          <a:blip r:embed="rId1"/>
          <a:stretch/>
        </p:blipFill>
        <p:spPr>
          <a:xfrm>
            <a:off x="71280" y="1905120"/>
            <a:ext cx="3814920" cy="43956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uperficial Posterior Compartment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657600" y="1143000"/>
            <a:ext cx="5486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iceps sura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strocnemius (2 head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igin - medial and lateral condyles of fem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ertion - posterior calcaneus via Achilles tend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le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igin – tibia and fib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ertion – same as abo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ion of both – plantarflex f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taris (variab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igin – posterior fem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ertion – same as above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ion – plantarflex foot, week knee flex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5"/>
          <p:cNvSpPr/>
          <p:nvPr/>
        </p:nvSpPr>
        <p:spPr>
          <a:xfrm>
            <a:off x="314280" y="6095880"/>
            <a:ext cx="3413160" cy="3682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innervated by the tibial ne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8" descr=""/>
          <p:cNvPicPr/>
          <p:nvPr/>
        </p:nvPicPr>
        <p:blipFill>
          <a:blip r:embed="rId1"/>
          <a:stretch/>
        </p:blipFill>
        <p:spPr>
          <a:xfrm>
            <a:off x="228600" y="1600200"/>
            <a:ext cx="3346560" cy="42339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eep Posterior Compart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505320" y="1294920"/>
            <a:ext cx="5486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plite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igin - lateral condyle femu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lateral menisc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ertion – proximal tib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tion – flex and medially rotate le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exor digitorum long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igin - tib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ertion - distal phalanges of toe 2-5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tion – plantarflex and invert foot, flex to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exor hallucis long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igin - fib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ertion - distal phalanx of hallu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tion - plantarflex and invert foot, flex to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bialis posteri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igin – tibia, fibula, and interosseous membra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ertion - tarsals and metatars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tion - plantarflex and invert fo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5"/>
          <p:cNvSpPr/>
          <p:nvPr/>
        </p:nvSpPr>
        <p:spPr>
          <a:xfrm>
            <a:off x="4120920" y="6400800"/>
            <a:ext cx="3413160" cy="3682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innervated by the tibial ne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10" descr=""/>
          <p:cNvPicPr/>
          <p:nvPr/>
        </p:nvPicPr>
        <p:blipFill>
          <a:blip r:embed="rId1"/>
          <a:stretch/>
        </p:blipFill>
        <p:spPr>
          <a:xfrm>
            <a:off x="152280" y="990720"/>
            <a:ext cx="3095640" cy="54244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3" descr=""/>
          <p:cNvPicPr/>
          <p:nvPr/>
        </p:nvPicPr>
        <p:blipFill>
          <a:blip r:embed="rId1"/>
          <a:stretch/>
        </p:blipFill>
        <p:spPr>
          <a:xfrm>
            <a:off x="990720" y="123840"/>
            <a:ext cx="7086600" cy="65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urface Anatom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038480" y="1828440"/>
            <a:ext cx="45720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erior thigh and le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lp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tel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dyles of fem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moral Tri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undari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rtorius (later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uctor longus (medi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guinal ligament (superio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moral artery, vein and nerve, lymph 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8" descr=""/>
          <p:cNvPicPr/>
          <p:nvPr/>
        </p:nvPicPr>
        <p:blipFill>
          <a:blip r:embed="rId1"/>
          <a:stretch/>
        </p:blipFill>
        <p:spPr>
          <a:xfrm>
            <a:off x="228600" y="1371600"/>
            <a:ext cx="3808440" cy="53150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647960" y="1828800"/>
            <a:ext cx="4343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Innervation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120" y="304920"/>
            <a:ext cx="821556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lexuses of the Lower Lim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800600" y="1371240"/>
            <a:ext cx="403848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umbosacral plexu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umbar Plex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ises from L1-L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es within the psoas major musc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stly anterior struct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cral Plex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ises from spinal nerve L4-S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es caudal to the lumbar plex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stly posterior struct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9" descr=""/>
          <p:cNvPicPr/>
          <p:nvPr/>
        </p:nvPicPr>
        <p:blipFill>
          <a:blip r:embed="rId1"/>
          <a:stretch/>
        </p:blipFill>
        <p:spPr>
          <a:xfrm>
            <a:off x="228600" y="1295280"/>
            <a:ext cx="4454640" cy="54104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umbar Plex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352320" y="1447560"/>
            <a:ext cx="579132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moral ner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taneous branch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gh, leg, foot (e.g. saphenous nerv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tor branch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terior thigh muscles (e.g. quadriceps, sartorius, iliopso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turator ner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ns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kin medial thigh; hip, knee joi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uctor musc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teral femoral cutaneo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ns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kin lateral thig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itofemor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ns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kin scrotum, labia major, anterior thig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emaster musc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6" descr=""/>
          <p:cNvPicPr/>
          <p:nvPr/>
        </p:nvPicPr>
        <p:blipFill>
          <a:blip r:embed="rId1"/>
          <a:stretch/>
        </p:blipFill>
        <p:spPr>
          <a:xfrm>
            <a:off x="228600" y="2209680"/>
            <a:ext cx="3073320" cy="31100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4724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acral Plex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428640" y="1143000"/>
            <a:ext cx="5715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ia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to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mstr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anches int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bial ne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taneo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sterior leg and sole of foo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sterior leg, foo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on fibular (peroneal) nerve (superficial and deep peroneal nerv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taneo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terior and lateral leg, dorsum foo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teral compartment, tibialis anterior, toe extens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erior gluteal ner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uteus medius and minimus, tensor fasciae lat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6" descr=""/>
          <p:cNvPicPr/>
          <p:nvPr/>
        </p:nvPicPr>
        <p:blipFill>
          <a:blip r:embed="rId1"/>
          <a:stretch/>
        </p:blipFill>
        <p:spPr>
          <a:xfrm>
            <a:off x="0" y="1523880"/>
            <a:ext cx="3613320" cy="36576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6629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acral Plexu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419360" y="1371240"/>
            <a:ext cx="47242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erior gluteal ner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luteus maxim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terior femoral cutaneous ner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s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erior buttocks, posterior thigh, popliteal fos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dendal ner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s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ternal genitalia, an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scles of perine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6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4202280" cy="42530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176640" y="3200040"/>
            <a:ext cx="3852720" cy="46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Vasculature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rte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495320" y="2209680"/>
            <a:ext cx="44197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iliac (from aorta) branches in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nal ilia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lies pelvic org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ernal ilia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lies lower lim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9" descr="showimage"/>
          <p:cNvPicPr/>
          <p:nvPr/>
        </p:nvPicPr>
        <p:blipFill>
          <a:blip r:embed="rId1"/>
          <a:stretch/>
        </p:blipFill>
        <p:spPr>
          <a:xfrm>
            <a:off x="228600" y="1295280"/>
            <a:ext cx="4191120" cy="53434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15328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rte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428640" y="1980720"/>
            <a:ext cx="52578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nal iliac branches in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ranial and Caudal Glutea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uperior and Inferio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lute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Internal Pudend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ineum, external genital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Obturat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uctor musc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branches supply rectum, bladder, uterus, vagina, male reproductive gla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7" descr=""/>
          <p:cNvPicPr/>
          <p:nvPr/>
        </p:nvPicPr>
        <p:blipFill>
          <a:blip r:embed="rId1"/>
          <a:stretch/>
        </p:blipFill>
        <p:spPr>
          <a:xfrm>
            <a:off x="152280" y="2590920"/>
            <a:ext cx="3505320" cy="31795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352320" y="-360"/>
            <a:ext cx="5334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rte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2971800" y="1447560"/>
            <a:ext cx="60199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ernal iliac becomes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emor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ce passes the inguinal liga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wer lim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anches into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Deep femo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lnSpc>
                <a:spcPct val="80000"/>
              </a:lnSpc>
              <a:spcBef>
                <a:spcPts val="4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uctors, hamstrings, quadrice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lnSpc>
                <a:spcPct val="80000"/>
              </a:lnSpc>
              <a:spcBef>
                <a:spcPts val="4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ranches into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Medial/lateral femoral circumflex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974960" indent="-21924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ad and neck of femu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moral becomes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oplite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ntinuation of femoral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anches in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lnSpc>
                <a:spcPct val="80000"/>
              </a:lnSpc>
              <a:spcBef>
                <a:spcPts val="4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Genicula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974960" indent="-21924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n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lits in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lnSpc>
                <a:spcPct val="80000"/>
              </a:lnSpc>
              <a:spcBef>
                <a:spcPts val="4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Anterior Tibi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974960" indent="-21924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terior leg muscles, further branches to fe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lnSpc>
                <a:spcPct val="80000"/>
              </a:lnSpc>
              <a:spcBef>
                <a:spcPts val="4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Posterior Tibi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974960" indent="-21924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lexor muscles, plantar arch, branches to t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13" descr=""/>
          <p:cNvPicPr/>
          <p:nvPr/>
        </p:nvPicPr>
        <p:blipFill>
          <a:blip r:embed="rId1"/>
          <a:stretch/>
        </p:blipFill>
        <p:spPr>
          <a:xfrm>
            <a:off x="11160" y="1447920"/>
            <a:ext cx="2960640" cy="51814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Vei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733920" y="609480"/>
            <a:ext cx="541008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ep Veins: Mostly share names of arte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ltimately empty into Inferior Vena Ca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n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b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bu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lite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mo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/internal ilia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on ilia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erficial Vei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rsal venous arch (foo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eat saphenous (empties into femor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mall saphenous (empties into poplite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16" descr=""/>
          <p:cNvPicPr/>
          <p:nvPr/>
        </p:nvPicPr>
        <p:blipFill>
          <a:blip r:embed="rId1"/>
          <a:stretch/>
        </p:blipFill>
        <p:spPr>
          <a:xfrm>
            <a:off x="162000" y="1219320"/>
            <a:ext cx="3495600" cy="5330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5257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urface Anatom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47960" y="1295280"/>
            <a:ext cx="426708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terior le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pliteal fos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amond-shape fossa behind kn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unda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ceps femoris (superior-later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mitendinosis and semimembranosis (superior-medi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strocnemius heads (inferio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liteal artery and v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caneal (Achilles) tend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7" descr=""/>
          <p:cNvPicPr/>
          <p:nvPr/>
        </p:nvPicPr>
        <p:blipFill>
          <a:blip r:embed="rId1"/>
          <a:stretch/>
        </p:blipFill>
        <p:spPr>
          <a:xfrm>
            <a:off x="0" y="2209680"/>
            <a:ext cx="5486400" cy="3233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urface Anatom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962520" y="2057400"/>
            <a:ext cx="4132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erior leg b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b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bial tuberos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terior cr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al surf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al malleol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bu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teral malleol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8" descr=""/>
          <p:cNvPicPr/>
          <p:nvPr/>
        </p:nvPicPr>
        <p:blipFill>
          <a:blip r:embed="rId1"/>
          <a:stretch/>
        </p:blipFill>
        <p:spPr>
          <a:xfrm>
            <a:off x="609480" y="1752480"/>
            <a:ext cx="2934000" cy="45435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2819520"/>
            <a:ext cx="60199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Skeletal Composition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ones of the Lower Lim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809880" y="1294920"/>
            <a:ext cx="51818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n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como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rry weight of entire erect b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ints for muscular attach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on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g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m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n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tel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bia (medi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bula (later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sals (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atarsals  (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alanges (1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5" descr=""/>
          <p:cNvPicPr/>
          <p:nvPr/>
        </p:nvPicPr>
        <p:blipFill>
          <a:blip r:embed="rId1"/>
          <a:stretch/>
        </p:blipFill>
        <p:spPr>
          <a:xfrm>
            <a:off x="304920" y="1371600"/>
            <a:ext cx="2911320" cy="52578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560" y="274680"/>
            <a:ext cx="838188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hig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952520" y="2133720"/>
            <a:ext cx="4038840" cy="39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m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rgest, longest, strongest bone in the body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eives a lot of st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rses mediall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re in women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iculates with acetabulum proxim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iculates with tibia and patella dist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5" descr="New Image"/>
          <p:cNvPicPr/>
          <p:nvPr/>
        </p:nvPicPr>
        <p:blipFill>
          <a:blip r:embed="rId1"/>
          <a:stretch/>
        </p:blipFill>
        <p:spPr>
          <a:xfrm>
            <a:off x="8153280" y="152280"/>
            <a:ext cx="895320" cy="27432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134" name="Picture 6" descr=""/>
          <p:cNvPicPr/>
          <p:nvPr/>
        </p:nvPicPr>
        <p:blipFill>
          <a:blip r:embed="rId2"/>
          <a:stretch/>
        </p:blipFill>
        <p:spPr>
          <a:xfrm>
            <a:off x="152280" y="1752480"/>
            <a:ext cx="4714920" cy="42832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Kne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800600" y="1676520"/>
            <a:ext cx="4038480" cy="44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tel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iangular sesamoid b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ects knee j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leverage of thigh muscles acting across the kn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ained within patellar liga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5" descr=""/>
          <p:cNvPicPr/>
          <p:nvPr/>
        </p:nvPicPr>
        <p:blipFill>
          <a:blip r:embed="rId1"/>
          <a:stretch/>
        </p:blipFill>
        <p:spPr>
          <a:xfrm>
            <a:off x="457200" y="2514600"/>
            <a:ext cx="4191120" cy="32479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5T21:28:28Z</dcterms:created>
  <dc:creator>Heather Townsend</dc:creator>
  <dc:description/>
  <cp:keywords/>
  <dc:language>en-US</dc:language>
  <cp:lastModifiedBy>Newport</cp:lastModifiedBy>
  <dcterms:modified xsi:type="dcterms:W3CDTF">2009-08-17T20:48:50Z</dcterms:modified>
  <cp:revision>15</cp:revision>
  <dc:subject/>
  <dc:title>The Lower Limb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900261033</vt:lpwstr>
  </property>
</Properties>
</file>